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ECC3-2872-4707-A4B6-87C5915017F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3480" y="1018800"/>
            <a:ext cx="75247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Genetics of food intake in CoLau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04680" y="2866680"/>
            <a:ext cx="66387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Tanguy Corre and Pedro Marques-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Background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Dietary intake is modulated by physiological, educational and sociological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tic polymorphisms of the taste buds (but not only) make subjects more or less sensitive to hedonic factors and influence dietary behavi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37960" y="3557520"/>
            <a:ext cx="8766360" cy="2297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0520" y="630252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rim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trition Reviews (2011) Vol. 69(1):52–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0560" y="456840"/>
            <a:ext cx="830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Genetics of food intak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0520" y="630252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rim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trition Reviews (2011) Vol. 69(1):52–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95120" y="1247760"/>
            <a:ext cx="87663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Food intak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447920"/>
            <a:ext cx="8086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od intake can be assessed at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dividual macro (protein, carbohydrates,…) and micro (vitamins, minerals,…) nutri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Individual food types (fruit, meat, dairy,…) and por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Food patterns: « global picture » of dietary intake (healthy, fast-food, cafeteria,…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Food behaviours: orthorexia, anorexia, bulimia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ch level requires different mathematical and statistical methods (no « one size fits all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Aims of this projec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assess food patterns among the CoLaus participants, using dimension reduction techniques (PCA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conduct a GWAS on the resulting food patterns, adjusting for several covari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ventually focus on selected food types, depending on the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51:57Z</dcterms:created>
  <dc:creator>anpittet</dc:creator>
  <dc:description/>
  <dc:language>en-US</dc:language>
  <cp:lastModifiedBy>pmarques</cp:lastModifiedBy>
  <dcterms:modified xsi:type="dcterms:W3CDTF">2012-02-21T03:04:47Z</dcterms:modified>
  <cp:revision>692</cp:revision>
  <dc:subject/>
  <dc:title>Présentation PowerPoint</dc:title>
</cp:coreProperties>
</file>